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2D096-229E-43B6-93FB-8E8325026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0723B-3A1D-4002-B51B-13E9AD6C0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83E26-608B-448B-8DDD-90E68A669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820FD-F61F-4001-8E80-B3DAE1368B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F82EF-62B0-4E17-8336-3F14027E0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0B934-7B11-416A-A6B5-3FC17D9EB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8D85E-8B99-4CD7-B230-6B240AAC7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6EEE8-63D9-48B5-8B32-993537391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2CDD8E-094C-420C-A639-FD1AD094D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96DF-31E2-4BA0-BCB2-170B3DEA8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709F-01AD-4ADA-B03D-D8D73BDDA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3DD12-A06C-4AEE-9991-38F6B9401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26AB-7313-4FCB-9F75-D14018BAA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ys Learning Languag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657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Sarah Pav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d of Languages, Trinity Grammar School, Melbour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s lack of interest that boys show in learning languages, very low numbers enrolled in language programs in their final years of schoo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underachieving in this area also, and this underachievment creates negative feelings toward language learning for boy and this filters through to younger levels as w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hough article looks at strategies for boys, they work for girls als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happening in the classroom.</a:t>
            </a:r>
            <a:endParaRPr b="0" lang="en-US" sz="44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answer 2 questions - why are boys not engaged? Why does this lack of engagement afffect language programs most of al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see lanuages as different from other curriculum areas. Teacher is in central position “students rely almost entirely upon their teachers to gain access to, understand, and use the target language” and they don’t think they can ‘help 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repititon as something they have already done not as a way of embedding learn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prepared to be bor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boys need in a teacher</a:t>
            </a:r>
            <a:endParaRPr b="0" lang="en-US" sz="4400" spc="-1" strike="noStrike">
              <a:solidFill>
                <a:srgbClr val="000000"/>
              </a:solidFill>
              <a:latin typeface="Arial"/>
            </a:endParaRPr>
          </a:p>
        </p:txBody>
      </p:sp>
      <p:sp>
        <p:nvSpPr>
          <p:cNvPr id="4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of low self esteem, and they can feel like they are drowning, they need a teacher who believes in and rewards their risk-taking.</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eacher must engage the boy, and build relationships and enter their world.</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ys defined a language teacher who engages with them is one who </a:t>
            </a:r>
            <a:r>
              <a:rPr b="1" lang="en-US" sz="2000" spc="-1" strike="noStrike">
                <a:solidFill>
                  <a:srgbClr val="000000"/>
                </a:solidFill>
                <a:latin typeface="Arial"/>
              </a:rPr>
              <a:t>CARE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C</a:t>
            </a:r>
            <a:r>
              <a:rPr b="0" lang="en-US" sz="2000" spc="-1" strike="noStrike">
                <a:solidFill>
                  <a:srgbClr val="000000"/>
                </a:solidFill>
                <a:latin typeface="Arial"/>
              </a:rPr>
              <a:t>onnected with the students</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A</a:t>
            </a:r>
            <a:r>
              <a:rPr b="0" lang="en-US" sz="2000" spc="-1" strike="noStrike">
                <a:solidFill>
                  <a:srgbClr val="000000"/>
                </a:solidFill>
                <a:latin typeface="Arial"/>
              </a:rPr>
              <a:t>ctiviely involved in their learning</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R</a:t>
            </a:r>
            <a:r>
              <a:rPr b="0" lang="en-US" sz="2000" spc="-1" strike="noStrike">
                <a:solidFill>
                  <a:srgbClr val="000000"/>
                </a:solidFill>
                <a:latin typeface="Arial"/>
              </a:rPr>
              <a:t>elaxed and have a sense of fu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E</a:t>
            </a:r>
            <a:r>
              <a:rPr b="0" lang="en-US" sz="2000" spc="-1" strike="noStrike">
                <a:solidFill>
                  <a:srgbClr val="000000"/>
                </a:solidFill>
                <a:latin typeface="Arial"/>
              </a:rPr>
              <a:t>nthusiastic about the target language</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nd about their own teaching</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S</a:t>
            </a:r>
            <a:r>
              <a:rPr b="0" lang="en-US" sz="2000" spc="-1" strike="noStrike">
                <a:solidFill>
                  <a:srgbClr val="000000"/>
                </a:solidFill>
                <a:latin typeface="Arial"/>
              </a:rPr>
              <a:t>trike a blance between fun and discip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aningful learning</a:t>
            </a: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struggle to find a connection between the language learned and its use in real life and meaningful situations.</a:t>
            </a:r>
            <a:endParaRPr b="0" lang="en-US" sz="2800" spc="-1" strike="noStrike">
              <a:solidFill>
                <a:srgbClr val="000000"/>
              </a:solidFill>
              <a:latin typeface="Arial"/>
            </a:endParaRPr>
          </a:p>
          <a:p>
            <a:pPr marL="288000" indent="-2880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bat boys in Pavy’s research said they needed to be offered:</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ontent that is relevant to their lives and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nterests</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urposeful activities every lesson</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gress indictors</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288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naised lessons</a:t>
            </a:r>
            <a:endParaRPr b="0" lang="en-US" sz="44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do enjoy learning and learn best when the language lessons - </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e well planned and paced</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ngage their attention and keep them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lert</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e collaborative and competitiv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Keep them energetic and engaged</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re rounded off and reward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room strategies</a:t>
            </a: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 strategies to engage boys need to have the following component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information simple and focused</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 students by modelling overall structuresof writing and different ways of memorising informati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easy ways to sum up what has been learned in a lesso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students a visual means of learning and of monitoring their own behaviou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er small, achievable challenges to stud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3T06:57:11Z</dcterms:created>
  <dc:creator>Ministry of Education</dc:creator>
  <dc:description/>
  <dc:language>en-US</dc:language>
  <cp:lastModifiedBy>Ministry of Education</cp:lastModifiedBy>
  <dcterms:modified xsi:type="dcterms:W3CDTF">2009-09-13T07:28:32Z</dcterms:modified>
  <cp:revision>1</cp:revision>
  <dc:subject/>
  <dc:title>Boys Learning Languages</dc:title>
</cp:coreProperties>
</file>